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9BBF0-A9BA-40EA-A703-F5F54B046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67393-71F6-4C95-BBC0-92AF918C7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3977B-D817-43B2-8EE4-3FAF11A1A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42BAE-D447-4E03-94E0-248B569C7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3DC8E-5E30-49C2-961B-09212C508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60FC8-ADE4-4A39-9EAD-6ADB4BBA6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0753A-FE11-4452-8149-1C130EA88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BBEE6-657E-47ED-9B9F-EA74D996E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4C257-B003-4A43-858A-BFE320FD1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4B3FC-E92D-46AB-A169-CC5CA25A1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CBB20-3ADD-4BE0-931B-B50A5B814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9E15D-0287-44C6-89CB-174702725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3A9E9-27AB-421D-871E-F09517420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005EB-4A23-4A79-A79A-E79CCA39A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98454-97A2-4B86-BFC1-6D5DB86C8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57319-78B0-47EE-ABE7-A5CC9A00D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A5F2F-D2B1-4193-BB2E-24EE4764A1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A35D7-A64D-4580-B4EF-201D1BC7E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138DD-6618-42AA-8817-EF53EE2B3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61A57-8C88-47FA-AE6D-10F99C8AA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F2405-3481-4EA9-A7AD-65CD40C3D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6C6CC-97CA-4BA2-80BF-974FB270E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19543-1CAD-4563-AC5F-2C097241D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A954B-1BF5-4053-8888-147DAFCE6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122A-4B61-4A2B-BE91-616ED8EF2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5B14-2D32-41AB-B509-4980BC77D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600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ER MILLING MACHINE ACCOMMODATED WITH DRILL-HEAD</a:t>
            </a:r>
            <a:endParaRPr b="0" lang="en-US" sz="3200" spc="-1" strike="noStrike">
              <a:solidFill>
                <a:srgbClr val="000000"/>
              </a:solidFill>
              <a:latin typeface="Verdana"/>
            </a:endParaRPr>
          </a:p>
        </p:txBody>
      </p:sp>
      <p:sp>
        <p:nvSpPr>
          <p:cNvPr id="86" name="WordArt 4"/>
          <p:cNvSpPr txBox="1"/>
          <p:nvPr/>
        </p:nvSpPr>
        <p:spPr>
          <a:xfrm>
            <a:off x="1676520" y="1143000"/>
            <a:ext cx="5105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Mini project report on</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DVANTAGES </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killed workers are not necessary for leveling the table.</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intenance is simple</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ery cheap</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ngthier and wider work tables can also be leveled with less effort. </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ork setup time is reduc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MM ACCOMMODATED WITH DRILL HEAD</a:t>
            </a:r>
            <a:endParaRPr b="0" lang="en-US" sz="34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t is not easy to change over the work parts weighing about and more than 15 tones from one machine to othe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re in our conversation it is assault on time and power if the work part is to be transferred from milling machine to drilling machine for the purpose of drilling.</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the innovation of the project is that, drilling head is to be attached to the lead screw of the arm through half-nut arrangemen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RILL HEAD</a:t>
            </a:r>
            <a:endParaRPr b="0" lang="en-US" sz="3800" spc="-1" strike="noStrike">
              <a:solidFill>
                <a:srgbClr val="000000"/>
              </a:solidFill>
              <a:latin typeface="Verdana"/>
            </a:endParaRPr>
          </a:p>
        </p:txBody>
      </p:sp>
      <p:pic>
        <p:nvPicPr>
          <p:cNvPr id="107" name="Picture 4" descr="VIEW008"/>
          <p:cNvPicPr/>
          <p:nvPr/>
        </p:nvPicPr>
        <p:blipFill>
          <a:blip r:embed="rId1"/>
          <a:stretch/>
        </p:blipFill>
        <p:spPr>
          <a:xfrm>
            <a:off x="2967120" y="1752480"/>
            <a:ext cx="3890880" cy="426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NEFITS </a:t>
            </a:r>
            <a:endParaRPr b="0" lang="en-US" sz="32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ing and planer surface machining with mill tool are accommodated on the single unit.</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ork transfer time and lead time are decreased to maximum level.</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re power is saved, as there is no transfer of tones from one machine to another.</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all production is increas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LUSION </a:t>
            </a:r>
            <a:endParaRPr b="0" lang="en-US" sz="32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ing these types of combined manufacturing units as one stations in production system, there is increase in production, and there by decrease in pricing, shop floor area, work changing time, power etc.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TRODUCTION:</a:t>
            </a:r>
            <a:endParaRPr b="0" lang="en-US" sz="2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Planer-milling machin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Planers and shapers are now obsolescent, because milling machines have eclipsed them as the machine tools of choice for doing work, as the rate</a:t>
            </a:r>
            <a:r>
              <a:rPr b="0" lang="en-US" sz="3000" spc="-1" strike="noStrike" u="sng">
                <a:solidFill>
                  <a:srgbClr val="000000"/>
                </a:solidFill>
                <a:uFillTx/>
                <a:latin typeface="Verdana"/>
              </a:rPr>
              <a:t> </a:t>
            </a:r>
            <a:r>
              <a:rPr b="0" lang="en-US" sz="3000" spc="-1" strike="noStrike">
                <a:solidFill>
                  <a:srgbClr val="000000"/>
                </a:solidFill>
                <a:latin typeface="Verdana"/>
              </a:rPr>
              <a:t>of metal removal is quantitativ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aner-milling machines come in two kinds: double-housing and open-side. The double-housing variety has vertical supports on both sides of its long bed; the open-side variety has a vertical support on only one side, allowing the work piece to extend beyond the be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laner milling machine (PMM)</a:t>
            </a:r>
            <a:endParaRPr b="0" lang="en-US" sz="3800" spc="-1" strike="noStrike">
              <a:solidFill>
                <a:srgbClr val="000000"/>
              </a:solidFill>
              <a:latin typeface="Verdana"/>
            </a:endParaRPr>
          </a:p>
        </p:txBody>
      </p:sp>
      <p:pic>
        <p:nvPicPr>
          <p:cNvPr id="91" name="Picture 4" descr="VIEW001"/>
          <p:cNvPicPr/>
          <p:nvPr/>
        </p:nvPicPr>
        <p:blipFill>
          <a:blip r:embed="rId1"/>
          <a:stretch/>
        </p:blipFill>
        <p:spPr>
          <a:xfrm>
            <a:off x="838080" y="1752480"/>
            <a:ext cx="7412040" cy="510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HINE CONFIGURATION</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urface area of work tabl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4 metres * 6 metr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ximum distance between the work table &amp; the arm:</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2 metr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ximum weight of work that the bed can withstand:</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45 ton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TUP OF WORK PIECE ON THE MACHINE</a:t>
            </a:r>
            <a:endParaRPr b="0" lang="en-US" sz="32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Lift the work piece, using hoist, to position on machine b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ure work piece in holding fixture, using wrenches, and verify position, using gauges, calipers, or squar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cutting tool and mount it in spindle, using hand tools. Adjust controls to set feed rate, speed of cutting tool, and depth of cu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machine, and engage automatic feed. Observe operation, stop machine to change cutting tool, and adjust control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VELING OF WORK TABLE USING LONG FLEXIBLE LIQUID COLUMN</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veling of work table or machine bed, using a long flexible liquid column is a simple techniqu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veling of work tables having configuration about 6 mts * 4 mts, is difficult and not secure, with spirit levels or any other techniqu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ABLE IS LEVELED IMPROPERLY</a:t>
            </a:r>
            <a:endParaRPr b="0" lang="en-US" sz="3400" spc="-1" strike="noStrike">
              <a:solidFill>
                <a:srgbClr val="000000"/>
              </a:solidFill>
              <a:latin typeface="Verdana"/>
            </a:endParaRPr>
          </a:p>
        </p:txBody>
      </p:sp>
      <p:pic>
        <p:nvPicPr>
          <p:cNvPr id="99" name="Picture 4" descr="column"/>
          <p:cNvPicPr/>
          <p:nvPr/>
        </p:nvPicPr>
        <p:blipFill>
          <a:blip r:embed="rId1"/>
          <a:stretch/>
        </p:blipFill>
        <p:spPr>
          <a:xfrm>
            <a:off x="838080" y="1752480"/>
            <a:ext cx="7620120" cy="426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HE TABLE IS PROPERLY LEVELED</a:t>
            </a:r>
            <a:endParaRPr b="0" lang="en-US" sz="3400" spc="-1" strike="noStrike">
              <a:solidFill>
                <a:srgbClr val="000000"/>
              </a:solidFill>
              <a:latin typeface="Verdana"/>
            </a:endParaRPr>
          </a:p>
        </p:txBody>
      </p:sp>
      <p:pic>
        <p:nvPicPr>
          <p:cNvPr id="101" name="Picture 4" descr="co2"/>
          <p:cNvPicPr/>
          <p:nvPr/>
        </p:nvPicPr>
        <p:blipFill>
          <a:blip r:embed="rId1"/>
          <a:stretch/>
        </p:blipFill>
        <p:spPr>
          <a:xfrm>
            <a:off x="228600" y="1752480"/>
            <a:ext cx="8686800" cy="426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2T16:45:27Z</dcterms:created>
  <dc:creator>Mechanical Engineering Project</dc:creator>
  <dc:description/>
  <dc:language>en-US</dc:language>
  <cp:lastModifiedBy>Brigade</cp:lastModifiedBy>
  <dcterms:modified xsi:type="dcterms:W3CDTF">2011-08-09T14:24:43Z</dcterms:modified>
  <cp:revision>0</cp:revision>
  <dc:subject/>
  <dc:title>Mechanical Engineering Project</dc:title>
</cp:coreProperties>
</file>